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08C6C-007F-42B0-AA60-84FE157C52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0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599840"/>
            <a:ext cx="81504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2160"/>
            <a:ext cx="81504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03D52-6568-4291-BF41-184403EFB63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0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599840"/>
            <a:ext cx="39772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89080" y="1599840"/>
            <a:ext cx="39772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4997B-C36A-4D8B-B3AE-04A1182297F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0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FEF35-6C32-482B-A98C-D2599A33B8D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480" y="6480"/>
            <a:ext cx="81504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61BEB-BA5F-4203-9189-F0851621A38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0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599840"/>
            <a:ext cx="39772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89080" y="1599840"/>
            <a:ext cx="39772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2160"/>
            <a:ext cx="39772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3F2FB-A22D-4720-A1B1-075CCE62ED2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0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599840"/>
            <a:ext cx="39772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89080" y="1599840"/>
            <a:ext cx="39772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89080" y="3962160"/>
            <a:ext cx="39772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57871-EDA7-4D74-AC9D-EE84C994BF1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0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599840"/>
            <a:ext cx="39772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89080" y="1599840"/>
            <a:ext cx="39772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2160"/>
            <a:ext cx="81504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7B374-25DF-461C-8B11-A27D70D2FF4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0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599840"/>
            <a:ext cx="81504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2160"/>
            <a:ext cx="81504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B9E49-8C13-4147-BFD1-96E0EB25C09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0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599840"/>
            <a:ext cx="39772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89080" y="1599840"/>
            <a:ext cx="39772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2160"/>
            <a:ext cx="39772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89080" y="3962160"/>
            <a:ext cx="39772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3979B-521A-4F05-8DAD-E07226BA053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0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599840"/>
            <a:ext cx="26240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8520" y="1599840"/>
            <a:ext cx="26240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3960" y="1599840"/>
            <a:ext cx="26240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2160"/>
            <a:ext cx="26240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8520" y="3962160"/>
            <a:ext cx="26240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3960" y="3962160"/>
            <a:ext cx="26240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F65AD-473B-4B25-86BB-E81C239F9E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0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599840"/>
            <a:ext cx="39772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89080" y="1599840"/>
            <a:ext cx="39772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2160"/>
            <a:ext cx="39772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89080" y="3962160"/>
            <a:ext cx="39772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911F3-7FE4-4421-9CF9-9CA743DD7A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0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599840"/>
            <a:ext cx="26240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8520" y="1599840"/>
            <a:ext cx="26240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3960" y="1599840"/>
            <a:ext cx="26240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2160"/>
            <a:ext cx="26240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8520" y="3962160"/>
            <a:ext cx="26240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3960" y="3962160"/>
            <a:ext cx="26240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98F63-2FFC-4F02-8579-593F504332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942ED-0665-4DE9-8714-2DF392E404A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0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599840"/>
            <a:ext cx="815040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1AA3E-F3F0-483C-95D2-89CDB3E4BD2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0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599840"/>
            <a:ext cx="815040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C3028-FA2F-4D29-BF1F-61352D176D9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0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599840"/>
            <a:ext cx="39772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89080" y="1599840"/>
            <a:ext cx="39772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EFECA-CCA7-438D-8F7B-DD24C049B35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0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D4E6B-F289-479F-B6A5-1C3DF3326C3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6480"/>
            <a:ext cx="81504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A8555-6945-4798-9C23-436496FF948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0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599840"/>
            <a:ext cx="39772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89080" y="1599840"/>
            <a:ext cx="39772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2160"/>
            <a:ext cx="39772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81328-AA73-49AF-B481-C8F95CFEC3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0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599840"/>
            <a:ext cx="815040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EEADC-F9B2-4365-9A66-E6B9692548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0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599840"/>
            <a:ext cx="39772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9080" y="1599840"/>
            <a:ext cx="39772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89080" y="3962160"/>
            <a:ext cx="39772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C2975-BA86-4356-A5F6-B0BD341A42F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0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599840"/>
            <a:ext cx="39772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9080" y="1599840"/>
            <a:ext cx="39772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2160"/>
            <a:ext cx="81504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954A0-73B4-4889-9CB5-7B5FD64FC38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0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599840"/>
            <a:ext cx="81504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2160"/>
            <a:ext cx="81504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177FB-6A15-4E52-B49F-7629EE849F8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0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599840"/>
            <a:ext cx="39772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9080" y="1599840"/>
            <a:ext cx="39772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2160"/>
            <a:ext cx="39772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89080" y="3962160"/>
            <a:ext cx="39772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8392C-032D-43F3-AA9E-E3E8650CA1D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0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599840"/>
            <a:ext cx="26240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8520" y="1599840"/>
            <a:ext cx="26240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3960" y="1599840"/>
            <a:ext cx="26240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2160"/>
            <a:ext cx="26240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8520" y="3962160"/>
            <a:ext cx="26240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3960" y="3962160"/>
            <a:ext cx="26240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B77AD-6D65-47E0-86C2-7B572668F31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4AC6-26A9-4B46-A8A1-CE253D72ED6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0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599840"/>
            <a:ext cx="815040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1433-541F-42DA-B5F5-F8EF797FF8D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0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599840"/>
            <a:ext cx="815040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26B3-696F-4BD4-9835-32442282D52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0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599840"/>
            <a:ext cx="39772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89080" y="1599840"/>
            <a:ext cx="39772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F9F9-5DDD-401D-9C5B-84D8560258A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0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37E8-6D53-43BF-BB8E-54D8F73587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0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599840"/>
            <a:ext cx="815040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8D0E8-5048-4387-8E3D-3283B7F6E3D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6480"/>
            <a:ext cx="81504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387E-FE70-4629-80CA-A3B92DD3B79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0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599840"/>
            <a:ext cx="39772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89080" y="1599840"/>
            <a:ext cx="39772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2160"/>
            <a:ext cx="39772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94A1-4D88-4743-A14D-6CA0944E65E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0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599840"/>
            <a:ext cx="39772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89080" y="1599840"/>
            <a:ext cx="39772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89080" y="3962160"/>
            <a:ext cx="39772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72C2-84A9-4FD6-9E6E-376122C6106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0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599840"/>
            <a:ext cx="39772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9080" y="1599840"/>
            <a:ext cx="39772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2160"/>
            <a:ext cx="81504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9545-6DC2-43B8-850C-7DE25D5AA68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0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599840"/>
            <a:ext cx="81504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2160"/>
            <a:ext cx="81504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0661-FB05-419F-AA2A-0591803F15D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0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599840"/>
            <a:ext cx="39772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89080" y="1599840"/>
            <a:ext cx="39772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2160"/>
            <a:ext cx="39772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89080" y="3962160"/>
            <a:ext cx="39772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7966-62B2-451A-A4B6-0766F7C0A2A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0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599840"/>
            <a:ext cx="26240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8520" y="1599840"/>
            <a:ext cx="26240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3960" y="1599840"/>
            <a:ext cx="26240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2160"/>
            <a:ext cx="26240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8520" y="3962160"/>
            <a:ext cx="26240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3960" y="3962160"/>
            <a:ext cx="26240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72CE-6499-435C-8E0B-39C6C7DE70B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9FEE5B-8F1E-42A3-8206-4F84E0399C9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0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599840"/>
            <a:ext cx="815040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9F003D-C208-4F53-B892-CABED367D31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0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599840"/>
            <a:ext cx="815040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08B6FF-E005-45DA-A506-417C1F5D2B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0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599840"/>
            <a:ext cx="39772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89080" y="1599840"/>
            <a:ext cx="39772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F800B-6400-4F8D-A10A-BC0E84FCB49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0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599840"/>
            <a:ext cx="39772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89080" y="1599840"/>
            <a:ext cx="39772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28DFB6-43CC-4F41-B0C9-3F1FEC15A40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0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709458-C1CC-48AF-BB07-7E9E428C1B1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480" y="6480"/>
            <a:ext cx="81504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2591B7-E8AF-42D6-AF7C-459A5ACCEA1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0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599840"/>
            <a:ext cx="39772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89080" y="1599840"/>
            <a:ext cx="39772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2160"/>
            <a:ext cx="39772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243419-60D2-4B79-A7E4-24AC6A11F4F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0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599840"/>
            <a:ext cx="39772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89080" y="1599840"/>
            <a:ext cx="39772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89080" y="3962160"/>
            <a:ext cx="39772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3A0D83-65A0-4E0D-B8D3-DFB43E7C96D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0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599840"/>
            <a:ext cx="39772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89080" y="1599840"/>
            <a:ext cx="39772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2160"/>
            <a:ext cx="81504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E23DED-0DF4-4859-B773-DB1C40321AA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0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599840"/>
            <a:ext cx="81504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2160"/>
            <a:ext cx="81504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324D7B-3BE3-4C42-A697-F082A74A945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0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599840"/>
            <a:ext cx="39772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89080" y="1599840"/>
            <a:ext cx="39772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2160"/>
            <a:ext cx="39772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89080" y="3962160"/>
            <a:ext cx="39772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058A42-B342-41E8-8494-7E4AA7F7E8C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0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599840"/>
            <a:ext cx="26240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8520" y="1599840"/>
            <a:ext cx="26240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3960" y="1599840"/>
            <a:ext cx="26240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2160"/>
            <a:ext cx="26240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8520" y="3962160"/>
            <a:ext cx="26240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3960" y="3962160"/>
            <a:ext cx="26240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0B9711-24C1-4AF6-964D-9D7967D44B6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EF7095-552C-472C-B584-539333CE7B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0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ED7FC-9FEB-4E99-B97E-C1B6753760C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0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599840"/>
            <a:ext cx="815040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F73E6A-6255-43E6-A51D-D61DF1BDB7C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0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599840"/>
            <a:ext cx="815040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EF894B-E902-46E7-91EA-700E55540B1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0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599840"/>
            <a:ext cx="39772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89080" y="1599840"/>
            <a:ext cx="39772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6673AD-4B3D-400E-9357-B1AC5333A82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0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3C0594-5F79-4EDD-9C8E-627210AE6E0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480" y="6480"/>
            <a:ext cx="81504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2BEEA9-E93D-4367-9DF1-2A9F514D297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0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599840"/>
            <a:ext cx="39772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89080" y="1599840"/>
            <a:ext cx="39772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2160"/>
            <a:ext cx="39772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ABD36D-2A99-44CE-B15E-170C5487C1E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0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599840"/>
            <a:ext cx="39772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89080" y="1599840"/>
            <a:ext cx="39772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89080" y="3962160"/>
            <a:ext cx="39772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EBCE36-2AF7-4E3E-BDFB-3661FA8AC32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0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599840"/>
            <a:ext cx="39772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89080" y="1599840"/>
            <a:ext cx="39772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2160"/>
            <a:ext cx="81504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607843-0E65-450A-8A4C-FF554D10579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0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599840"/>
            <a:ext cx="81504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2160"/>
            <a:ext cx="81504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594983-D157-49B1-A05B-463E19316B8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0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599840"/>
            <a:ext cx="39772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89080" y="1599840"/>
            <a:ext cx="39772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2160"/>
            <a:ext cx="39772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89080" y="3962160"/>
            <a:ext cx="39772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EC5BD2-84AA-4DBD-A8F4-5BFF834979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6480"/>
            <a:ext cx="81504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77283-7CA9-4122-8788-E1092B765C9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0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599840"/>
            <a:ext cx="26240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8520" y="1599840"/>
            <a:ext cx="26240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3960" y="1599840"/>
            <a:ext cx="26240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2160"/>
            <a:ext cx="26240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8520" y="3962160"/>
            <a:ext cx="26240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3960" y="3962160"/>
            <a:ext cx="26240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90148F-EF55-4A3C-B977-D48330818AC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5295D-CA99-45ED-AD38-B23DB446804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0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599840"/>
            <a:ext cx="815040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90D38-2739-41D1-AA66-1F6E04A3C96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0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599840"/>
            <a:ext cx="815040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6DFF4-7FF8-4819-80B1-52A26B5B737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0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599840"/>
            <a:ext cx="39772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89080" y="1599840"/>
            <a:ext cx="39772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08401-19F0-4375-B449-C42A237D767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0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EB354-67EA-46BD-9185-3B7B9974441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480" y="6480"/>
            <a:ext cx="81504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3A02D-8B05-4127-BE64-4CD5464F73F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0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599840"/>
            <a:ext cx="39772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89080" y="1599840"/>
            <a:ext cx="39772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2160"/>
            <a:ext cx="39772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9381C-5ACF-4EA6-A85C-1B8BCD28585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0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599840"/>
            <a:ext cx="39772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89080" y="1599840"/>
            <a:ext cx="39772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89080" y="3962160"/>
            <a:ext cx="39772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360FA-37E9-481F-9DDA-721CB5B760E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0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599840"/>
            <a:ext cx="39772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89080" y="1599840"/>
            <a:ext cx="39772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2160"/>
            <a:ext cx="81504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ADE42-77AE-4A45-B396-89EB045A43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0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599840"/>
            <a:ext cx="39772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9080" y="1599840"/>
            <a:ext cx="39772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2160"/>
            <a:ext cx="39772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F0D62-FB15-4E80-8172-2572CCEC25E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0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599840"/>
            <a:ext cx="81504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2160"/>
            <a:ext cx="81504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8F376-580B-43F8-B6F2-CEE9C0869C2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0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599840"/>
            <a:ext cx="39772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89080" y="1599840"/>
            <a:ext cx="39772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2160"/>
            <a:ext cx="39772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89080" y="3962160"/>
            <a:ext cx="39772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99C67-5203-44DB-9FD6-1E38083CF51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0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599840"/>
            <a:ext cx="26240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8520" y="1599840"/>
            <a:ext cx="26240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3960" y="1599840"/>
            <a:ext cx="26240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2160"/>
            <a:ext cx="26240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8520" y="3962160"/>
            <a:ext cx="26240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3960" y="3962160"/>
            <a:ext cx="26240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68ECA-D9EA-44F2-972B-108467D15E5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45E182-9277-4ECD-AD38-89D401DFE01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0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599840"/>
            <a:ext cx="815040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85A8AD-D438-40CE-A511-1755F65FB9F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0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599840"/>
            <a:ext cx="815040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640806-0C53-4F7B-A746-2AEF55720DF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0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599840"/>
            <a:ext cx="39772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89080" y="1599840"/>
            <a:ext cx="39772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ACE327-F67F-44EA-9FCF-B0588FCD932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0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A879C3-FAC0-40E0-8ABF-43375BC5DD6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480" y="6480"/>
            <a:ext cx="81504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220753-5E8F-4A44-A39A-D65ADC6BD23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0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599840"/>
            <a:ext cx="39772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89080" y="1599840"/>
            <a:ext cx="39772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2160"/>
            <a:ext cx="39772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BA1C02-6264-484B-8FBE-7FAE122EB4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0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599840"/>
            <a:ext cx="39772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9080" y="1599840"/>
            <a:ext cx="39772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89080" y="3962160"/>
            <a:ext cx="39772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6F7B0-FC55-4BBF-AA3B-145AB18FC6F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0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599840"/>
            <a:ext cx="39772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89080" y="1599840"/>
            <a:ext cx="39772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89080" y="3962160"/>
            <a:ext cx="39772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F395D5-0ED4-4BC4-B5FA-F33D29DE1C3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0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599840"/>
            <a:ext cx="39772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89080" y="1599840"/>
            <a:ext cx="39772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2160"/>
            <a:ext cx="81504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7BAC6D-7788-4151-89D1-9F986BF5931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0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599840"/>
            <a:ext cx="81504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2160"/>
            <a:ext cx="81504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73810A-B41D-43C2-95E9-3FB4A79310A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0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599840"/>
            <a:ext cx="39772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89080" y="1599840"/>
            <a:ext cx="39772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2160"/>
            <a:ext cx="39772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89080" y="3962160"/>
            <a:ext cx="39772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CC2BB3-18FC-4CF4-9671-D82E11576E1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0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599840"/>
            <a:ext cx="26240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8520" y="1599840"/>
            <a:ext cx="26240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3960" y="1599840"/>
            <a:ext cx="26240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2160"/>
            <a:ext cx="26240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8520" y="3962160"/>
            <a:ext cx="26240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3960" y="3962160"/>
            <a:ext cx="26240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D0BF18-DBD6-4591-A44D-5B99DBAE421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EADCE8-EEDB-4B3F-845E-039689E08BC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0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599840"/>
            <a:ext cx="815040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061380-8217-4DED-A537-0496F404A82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0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599840"/>
            <a:ext cx="815040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A419F2-B2D9-4AA1-9862-7A3B697BFB5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0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599840"/>
            <a:ext cx="39772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89080" y="1599840"/>
            <a:ext cx="39772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EBA130-28BB-4128-9706-F6EAF232FB9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0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1B3593-63F6-47A0-BAE4-105DCFEDBB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0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599840"/>
            <a:ext cx="39772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9080" y="1599840"/>
            <a:ext cx="39772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2160"/>
            <a:ext cx="81504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0AAC7-6F47-46E1-B649-F2981078F01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480" y="6480"/>
            <a:ext cx="81504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5B24EC-F179-434A-B642-B50ACF06EDE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0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599840"/>
            <a:ext cx="39772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89080" y="1599840"/>
            <a:ext cx="39772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2160"/>
            <a:ext cx="39772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6918CF-8970-46EC-B241-5E312392907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0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599840"/>
            <a:ext cx="39772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89080" y="1599840"/>
            <a:ext cx="39772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89080" y="3962160"/>
            <a:ext cx="39772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CA5CF2-67DA-4870-A445-A10AC8D1E46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0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599840"/>
            <a:ext cx="39772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89080" y="1599840"/>
            <a:ext cx="39772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2160"/>
            <a:ext cx="81504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B74B6B-EBFC-4229-A8CF-366A436EF3D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0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599840"/>
            <a:ext cx="81504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2160"/>
            <a:ext cx="81504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92866A-723F-4B0A-82A5-65213A06770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0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599840"/>
            <a:ext cx="39772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89080" y="1599840"/>
            <a:ext cx="39772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2160"/>
            <a:ext cx="39772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89080" y="3962160"/>
            <a:ext cx="39772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D1B4C2-BE5B-40E9-AF01-FF544100757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0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599840"/>
            <a:ext cx="26240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8520" y="1599840"/>
            <a:ext cx="26240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3960" y="1599840"/>
            <a:ext cx="26240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2160"/>
            <a:ext cx="26240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8520" y="3962160"/>
            <a:ext cx="26240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3960" y="3962160"/>
            <a:ext cx="26240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BD59A5-5FAB-4D7B-8A42-C38D446C936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2625A-B245-46BE-933D-52A1C41ABD9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0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599840"/>
            <a:ext cx="815040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18CD8-0FE3-4115-9BE1-3A19B508B35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0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599840"/>
            <a:ext cx="815040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02B1B-B827-4CF5-8F4A-3581D8FA00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0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599840"/>
            <a:ext cx="815040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6095880" y="6200640"/>
            <a:ext cx="2667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609480" y="6200640"/>
            <a:ext cx="5421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-360" y="1162080"/>
            <a:ext cx="530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3E8F38-E3D3-478C-8509-E312C267652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0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599840"/>
            <a:ext cx="815040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76320" y="6068880"/>
            <a:ext cx="2057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208584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2"/>
          </p:nvPr>
        </p:nvSpPr>
        <p:spPr>
          <a:xfrm>
            <a:off x="8001000" y="228600"/>
            <a:ext cx="8352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A0A05757-D853-4F46-95FA-D51A207BBE0F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0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599840"/>
            <a:ext cx="815040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3"/>
          </p:nvPr>
        </p:nvSpPr>
        <p:spPr>
          <a:xfrm>
            <a:off x="0" y="1752120"/>
            <a:ext cx="12924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E64581EE-55B0-45AF-91AF-8CC48116306D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0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599840"/>
            <a:ext cx="815040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4"/>
          </p:nvPr>
        </p:nvSpPr>
        <p:spPr>
          <a:xfrm>
            <a:off x="-360" y="1238400"/>
            <a:ext cx="5302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B7AA19D-D8B7-4FF9-8C17-080877083A8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0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599840"/>
            <a:ext cx="815040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5"/>
          </p:nvPr>
        </p:nvSpPr>
        <p:spPr>
          <a:xfrm>
            <a:off x="-360" y="1238400"/>
            <a:ext cx="5302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75FB286-796C-44BF-9D05-C2FCC344AE9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0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599840"/>
            <a:ext cx="815040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sldNum" idx="6"/>
          </p:nvPr>
        </p:nvSpPr>
        <p:spPr>
          <a:xfrm>
            <a:off x="-360" y="6248160"/>
            <a:ext cx="530280" cy="3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E350C4E-1BA1-449A-934D-58FA49D8E0C0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Rectangle 2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0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599840"/>
            <a:ext cx="815040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Text Box 7"/>
          <p:cNvSpPr/>
          <p:nvPr/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Num" idx="7"/>
          </p:nvPr>
        </p:nvSpPr>
        <p:spPr>
          <a:xfrm>
            <a:off x="-360" y="4667400"/>
            <a:ext cx="144468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CA091C1D-EC41-4405-9C9F-FFD4AC616B10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9"/>
          <p:cNvSpPr/>
          <p:nvPr/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tangle 2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Rectangle 3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0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599840"/>
            <a:ext cx="815040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655308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45720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8"/>
          </p:nvPr>
        </p:nvSpPr>
        <p:spPr>
          <a:xfrm>
            <a:off x="6409800" y="0"/>
            <a:ext cx="53028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BA0F08A-880E-46D8-86E3-DCA847E30E7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0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599840"/>
            <a:ext cx="815040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sldNum" idx="9"/>
          </p:nvPr>
        </p:nvSpPr>
        <p:spPr>
          <a:xfrm>
            <a:off x="-360" y="1238400"/>
            <a:ext cx="5302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42839A3-66A9-4A3F-8E93-3A972EA0FBA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xpathtester.com/" TargetMode="External"/><Relationship Id="rId2" Type="http://schemas.openxmlformats.org/officeDocument/2006/relationships/hyperlink" Target="http://xpath.online-toolz.com/tools/xpath-editor.php" TargetMode="External"/><Relationship Id="rId3" Type="http://schemas.openxmlformats.org/officeDocument/2006/relationships/hyperlink" Target="http://chris.photobooks.com/xml" TargetMode="External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1"/>
          <p:cNvSpPr/>
          <p:nvPr/>
        </p:nvSpPr>
        <p:spPr>
          <a:xfrm>
            <a:off x="236232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XM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Text Box 2"/>
          <p:cNvSpPr/>
          <p:nvPr/>
        </p:nvSpPr>
        <p:spPr>
          <a:xfrm>
            <a:off x="2362320" y="6049800"/>
            <a:ext cx="6705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BUSI 2710 – Class 18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XPat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Text Box 2"/>
          <p:cNvSpPr/>
          <p:nvPr/>
        </p:nvSpPr>
        <p:spPr>
          <a:xfrm>
            <a:off x="612720" y="1600200"/>
            <a:ext cx="85312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6080" indent="-3160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 an XML document with nested elements you can select elements as in this example: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636480" indent="-2714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Font typeface="Wingdings 2" charset="2"/>
              <a:buChar char="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/PurchaseOrder/shipTo/stree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16080" indent="-3160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dd8047"/>
              </a:buClr>
              <a:buFont typeface="Wingdings" charset="2"/>
              <a:buChar char="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s selects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eet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lement that is within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hipTo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lement that is within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urchaseOrder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lement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16080" indent="-3160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o select the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content only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(text) of that element, use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636480" indent="-2714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Font typeface="Wingdings 2" charset="2"/>
              <a:buChar char="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/PurchaseOrder/shipTo/street/text(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dvanced XPat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Text Box 2"/>
          <p:cNvSpPr/>
          <p:nvPr/>
        </p:nvSpPr>
        <p:spPr>
          <a:xfrm>
            <a:off x="612720" y="1600200"/>
            <a:ext cx="85312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6080" indent="-3160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o select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w Cen MT"/>
              </a:rPr>
              <a:t>all elements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ntained in another element, you can use the “*”, as in this example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6480" indent="-2714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Font typeface="Wingdings 2" charset="2"/>
              <a:buChar char="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/PurchaseOrder/items/*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16080" indent="-3160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dd8047"/>
              </a:buClr>
              <a:buFont typeface="Wingdings" charset="2"/>
              <a:buChar char="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is selects all elements that are within the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items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element that is within the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PurchaseOrder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elemen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16080" indent="-3160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o select only the quantity of the 3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w Cen MT"/>
              </a:rPr>
              <a:t>rd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item, us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6480" indent="-2714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Font typeface="Wingdings 2" charset="2"/>
              <a:buChar char="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/PurchaseOrder/items/item[3]/quantity/text(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775f55"/>
                </a:solidFill>
                <a:latin typeface="Tw Cen MT"/>
              </a:rPr>
              <a:t>XQue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Text Box 2"/>
          <p:cNvSpPr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6080" indent="-3160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The simplest XQuery expression is an XPath expression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16080" indent="-3160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Example (note the extra curly brackets for XQuery):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636480" indent="-2714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Font typeface="Wingdings 2" charset="2"/>
              <a:buChar char="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{/PurchaseOrder/comment/text()}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1"/>
          <p:cNvSpPr/>
          <p:nvPr/>
        </p:nvSpPr>
        <p:spPr>
          <a:xfrm>
            <a:off x="1371600" y="2743200"/>
            <a:ext cx="762012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Write an XPath expression to select the expiry date of your drivers licen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www.xpathtester.c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 u="sng">
                <a:solidFill>
                  <a:srgbClr val="f7b615"/>
                </a:solidFill>
                <a:uFillTx/>
                <a:latin typeface="Tw Cen MT"/>
                <a:hlinkClick r:id="rId2"/>
              </a:rPr>
              <a:t>xpath.online-toolz.com/tools/xpath-editor.ph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 u="sng">
                <a:solidFill>
                  <a:srgbClr val="f7b615"/>
                </a:solidFill>
                <a:uFillTx/>
                <a:latin typeface="Tw Cen MT"/>
                <a:hlinkClick r:id="rId3"/>
              </a:rPr>
              <a:t>chris.photobooks.com/x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Text Box 2"/>
          <p:cNvSpPr/>
          <p:nvPr/>
        </p:nvSpPr>
        <p:spPr>
          <a:xfrm>
            <a:off x="137160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"/>
              </a:rPr>
              <a:t>Exerci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XM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Text Box 2"/>
          <p:cNvSpPr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6080" indent="-3160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eXtensible Markup Langu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6080" indent="-3160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Define your own markup “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w Cen MT"/>
              </a:rPr>
              <a:t>tag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6480" indent="-2714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Font typeface="Wingdings 2" charset="2"/>
              <a:buChar char="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ＭＳ Ｐゴシック"/>
              </a:rPr>
              <a:t>E.g. &lt;PurchaseOrder&gt; … &lt;/PurchaseOrder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6480" indent="-2714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Font typeface="Wingdings 2" charset="2"/>
              <a:buChar char="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ＭＳ Ｐゴシック"/>
              </a:rPr>
              <a:t>E.g. &lt;Customer&gt; … &lt;/Customer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6080" indent="-3160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 start-tag, corresponding end-tag, and the content between them is called 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w Cen MT"/>
              </a:rPr>
              <a:t>XML El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6080" indent="-3160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ags and nested element structure (“tags within tags”) are defined using XML Schem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6080" indent="-3160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316080"/>
                <a:tab algn="l" pos="763560"/>
                <a:tab algn="l" pos="1212840"/>
                <a:tab algn="l" pos="1662120"/>
                <a:tab algn="l" pos="2111400"/>
                <a:tab algn="l" pos="2560680"/>
                <a:tab algn="l" pos="3009960"/>
                <a:tab algn="l" pos="3459240"/>
                <a:tab algn="l" pos="3908520"/>
                <a:tab algn="l" pos="4357800"/>
                <a:tab algn="l" pos="4807080"/>
                <a:tab algn="l" pos="5256360"/>
                <a:tab algn="l" pos="5705640"/>
                <a:tab algn="l" pos="6154560"/>
                <a:tab algn="l" pos="6603840"/>
                <a:tab algn="l" pos="7053120"/>
                <a:tab algn="l" pos="7502400"/>
                <a:tab algn="l" pos="7951680"/>
                <a:tab algn="l" pos="8400960"/>
                <a:tab algn="l" pos="8850240"/>
                <a:tab algn="l" pos="9299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XML Documents can use those tags to structure business information, e.g. purchase orders, invoice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1"/>
          <p:cNvSpPr/>
          <p:nvPr/>
        </p:nvSpPr>
        <p:spPr>
          <a:xfrm>
            <a:off x="3430440" y="66600"/>
            <a:ext cx="5642280" cy="67129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?xml version="1.0"?&gt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purchaseOrder orderDate="1999-10-20"&gt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shipTo country="US"&gt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name&gt;Alice Smith&lt;/name&gt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street&gt;123 Maple Street&lt;/street&gt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city&gt;Mill Valley&lt;/city&gt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state&gt;CA&lt;/state&gt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zip&gt;90952&lt;/zip&gt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/shipTo&gt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billTo country="US"&gt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name&gt;Robert Smith&lt;/name&gt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street&gt;8 Oak Avenue&lt;/street&gt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city&gt;Old Town&lt;/city&gt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state&gt;PA&lt;/state&gt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zip&gt;95819&lt;/zip&gt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/billTo&gt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comment&gt;Hurry, my lawn is going wild!&lt;/comment&gt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items&gt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item partNum="872-AA"&gt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productName&gt;Lawnmower&lt;/productName&gt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quantity&gt;1&lt;/quantity&gt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USPrice&gt;148.95&lt;/USPrice&gt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comment&gt;Confirm this is electric&lt;/comment&gt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/item&gt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/items&gt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/purchaseOrder&gt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Text Box 2"/>
          <p:cNvSpPr/>
          <p:nvPr/>
        </p:nvSpPr>
        <p:spPr>
          <a:xfrm>
            <a:off x="609480" y="6480"/>
            <a:ext cx="815364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Text Box 3"/>
          <p:cNvSpPr/>
          <p:nvPr/>
        </p:nvSpPr>
        <p:spPr>
          <a:xfrm>
            <a:off x="612720" y="1600200"/>
            <a:ext cx="2772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6080" indent="-3160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Font typeface="Wingdings" charset="2"/>
              <a:buChar char=""/>
              <a:tabLst>
                <a:tab algn="l" pos="316080"/>
                <a:tab algn="l" pos="42084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lements can contain  other elements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636480" indent="-2714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Font typeface="Wingdings 2" charset="2"/>
              <a:buChar char=""/>
              <a:tabLst>
                <a:tab algn="l" pos="316080"/>
                <a:tab algn="l" pos="42084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ＭＳ Ｐゴシック"/>
              </a:rPr>
              <a:t>Possibly with the same nam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1"/>
          <p:cNvSpPr/>
          <p:nvPr/>
        </p:nvSpPr>
        <p:spPr>
          <a:xfrm>
            <a:off x="1371600" y="2743200"/>
            <a:ext cx="754380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Describe your Drivers License using an XML document. Make up the tags as you need the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Text Box 2"/>
          <p:cNvSpPr/>
          <p:nvPr/>
        </p:nvSpPr>
        <p:spPr>
          <a:xfrm>
            <a:off x="137160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w Cen MT"/>
              </a:rPr>
              <a:t>Exercis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1"/>
          <p:cNvSpPr/>
          <p:nvPr/>
        </p:nvSpPr>
        <p:spPr>
          <a:xfrm>
            <a:off x="455760" y="272880"/>
            <a:ext cx="822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XML Schem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Text Box 2"/>
          <p:cNvSpPr/>
          <p:nvPr/>
        </p:nvSpPr>
        <p:spPr>
          <a:xfrm>
            <a:off x="455760" y="1598760"/>
            <a:ext cx="822636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efines the tags/elements and their structure in an XML document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very XML element is of a </a:t>
            </a:r>
            <a:r>
              <a:rPr b="0" i="1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type: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lements of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complex Types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55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ＭＳ Ｐゴシック"/>
              </a:rPr>
              <a:t>May have elements as conten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55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ＭＳ Ｐゴシック"/>
              </a:rPr>
              <a:t>May have attribut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lements of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simple Types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55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ＭＳ Ｐゴシック"/>
              </a:rPr>
              <a:t>No other elements as conten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55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ＭＳ Ｐゴシック"/>
              </a:rPr>
              <a:t>Cannot have attribut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1"/>
          <p:cNvSpPr/>
          <p:nvPr/>
        </p:nvSpPr>
        <p:spPr>
          <a:xfrm>
            <a:off x="169920" y="1828800"/>
            <a:ext cx="87152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&lt;shipTo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&lt;name&gt;Alice Smith&lt;/name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&lt;street&gt;123 Maple Street&lt;/street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&lt;city&gt;Mill Valley&lt;/city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&lt;state&gt;CA&lt;/state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&lt;zip&gt;90952&lt;/zip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&lt;/shipTo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Text Box 2"/>
          <p:cNvSpPr/>
          <p:nvPr/>
        </p:nvSpPr>
        <p:spPr>
          <a:xfrm>
            <a:off x="3347280" y="533520"/>
            <a:ext cx="4905000" cy="10688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94b6d2"/>
                </a:solidFill>
                <a:latin typeface="Times New Roman"/>
              </a:rPr>
              <a:t>ShipTo could be an </a:t>
            </a:r>
            <a:r>
              <a:rPr b="0" lang="en-US" sz="3200" spc="-1" strike="noStrike" u="sng">
                <a:solidFill>
                  <a:srgbClr val="94b6d2"/>
                </a:solidFill>
                <a:uFillTx/>
                <a:latin typeface="Times New Roman"/>
              </a:rPr>
              <a:t>instan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94b6d2"/>
                </a:solidFill>
                <a:uFillTx/>
                <a:latin typeface="Times New Roman"/>
              </a:rPr>
              <a:t>of</a:t>
            </a:r>
            <a:r>
              <a:rPr b="0" lang="en-US" sz="3200" spc="-1" strike="noStrike">
                <a:solidFill>
                  <a:srgbClr val="94b6d2"/>
                </a:solidFill>
                <a:latin typeface="Times New Roman"/>
              </a:rPr>
              <a:t> a Complex Ty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Text Box 3"/>
          <p:cNvSpPr/>
          <p:nvPr/>
        </p:nvSpPr>
        <p:spPr>
          <a:xfrm>
            <a:off x="3362760" y="4876920"/>
            <a:ext cx="4655160" cy="10688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94b6d2"/>
                </a:solidFill>
                <a:latin typeface="Times New Roman"/>
              </a:rPr>
              <a:t>Street could be an </a:t>
            </a:r>
            <a:r>
              <a:rPr b="0" lang="en-US" sz="3200" spc="-1" strike="noStrike" u="sng">
                <a:solidFill>
                  <a:srgbClr val="94b6d2"/>
                </a:solidFill>
                <a:uFillTx/>
                <a:latin typeface="Times New Roman"/>
              </a:rPr>
              <a:t>instan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94b6d2"/>
                </a:solidFill>
                <a:uFillTx/>
                <a:latin typeface="Times New Roman"/>
              </a:rPr>
              <a:t>of</a:t>
            </a:r>
            <a:r>
              <a:rPr b="0" lang="en-US" sz="3200" spc="-1" strike="noStrike">
                <a:solidFill>
                  <a:srgbClr val="94b6d2"/>
                </a:solidFill>
                <a:latin typeface="Times New Roman"/>
              </a:rPr>
              <a:t> a Simple Ty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1"/>
          <p:cNvSpPr/>
          <p:nvPr/>
        </p:nvSpPr>
        <p:spPr>
          <a:xfrm>
            <a:off x="455760" y="272880"/>
            <a:ext cx="822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XML Pre-defined Simple Typ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Text Box 3"/>
          <p:cNvSpPr/>
          <p:nvPr/>
        </p:nvSpPr>
        <p:spPr>
          <a:xfrm>
            <a:off x="5105520" y="5867280"/>
            <a:ext cx="365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94b6d2"/>
                </a:solidFill>
                <a:latin typeface="Times New Roman"/>
              </a:rPr>
              <a:t>Only a selection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1676520" y="2209680"/>
          <a:ext cx="6095880" cy="2971800"/>
        </p:xfrm>
        <a:graphic>
          <a:graphicData uri="http://schemas.openxmlformats.org/drawingml/2006/table">
            <a:tbl>
              <a:tblPr/>
              <a:tblGrid>
                <a:gridCol w="1523880"/>
                <a:gridCol w="4572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tr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aae2ca"/>
                      </a:solidFill>
                    </a:lnL>
                    <a:lnR w="5760">
                      <a:solidFill>
                        <a:srgbClr val="aae2ca"/>
                      </a:solidFill>
                    </a:lnR>
                    <a:lnT w="5760">
                      <a:solidFill>
                        <a:srgbClr val="aae2ca"/>
                      </a:solidFill>
                    </a:lnT>
                    <a:lnB w="5760">
                      <a:solidFill>
                        <a:srgbClr val="aae2ca"/>
                      </a:solidFill>
                    </a:lnB>
                    <a:solidFill>
                      <a:srgbClr val="f1f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 string of character, i.e. some 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aae2ca"/>
                      </a:solidFill>
                    </a:lnL>
                    <a:lnR w="5760">
                      <a:solidFill>
                        <a:srgbClr val="aae2ca"/>
                      </a:solidFill>
                    </a:lnR>
                    <a:lnT w="5760">
                      <a:solidFill>
                        <a:srgbClr val="aae2ca"/>
                      </a:solidFill>
                    </a:lnT>
                    <a:lnB w="5760">
                      <a:solidFill>
                        <a:srgbClr val="aae2ca"/>
                      </a:solidFill>
                    </a:lnB>
                    <a:solidFill>
                      <a:srgbClr val="f1fa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integ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aae2ca"/>
                      </a:solidFill>
                    </a:lnL>
                    <a:lnR w="5760">
                      <a:solidFill>
                        <a:srgbClr val="aae2ca"/>
                      </a:solidFill>
                    </a:lnR>
                    <a:lnT w="5760">
                      <a:solidFill>
                        <a:srgbClr val="aae2ca"/>
                      </a:solidFill>
                    </a:lnT>
                    <a:lnB w="5760">
                      <a:solidFill>
                        <a:srgbClr val="aae2ca"/>
                      </a:solidFill>
                    </a:lnB>
                    <a:solidFill>
                      <a:srgbClr val="e2f4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 whol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aae2ca"/>
                      </a:solidFill>
                    </a:lnL>
                    <a:lnR w="5760">
                      <a:solidFill>
                        <a:srgbClr val="aae2ca"/>
                      </a:solidFill>
                    </a:lnR>
                    <a:lnT w="5760">
                      <a:solidFill>
                        <a:srgbClr val="aae2ca"/>
                      </a:solidFill>
                    </a:lnT>
                    <a:lnB w="5760">
                      <a:solidFill>
                        <a:srgbClr val="aae2ca"/>
                      </a:solidFill>
                    </a:lnB>
                    <a:solidFill>
                      <a:srgbClr val="e2f4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flo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aae2ca"/>
                      </a:solidFill>
                    </a:lnL>
                    <a:lnR w="5760">
                      <a:solidFill>
                        <a:srgbClr val="aae2ca"/>
                      </a:solidFill>
                    </a:lnR>
                    <a:lnT w="5760">
                      <a:solidFill>
                        <a:srgbClr val="aae2ca"/>
                      </a:solidFill>
                    </a:lnT>
                    <a:lnB w="5760">
                      <a:solidFill>
                        <a:srgbClr val="aae2ca"/>
                      </a:solidFill>
                    </a:lnB>
                    <a:solidFill>
                      <a:srgbClr val="f1f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 number with decimal poi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aae2ca"/>
                      </a:solidFill>
                    </a:lnL>
                    <a:lnR w="5760">
                      <a:solidFill>
                        <a:srgbClr val="aae2ca"/>
                      </a:solidFill>
                    </a:lnR>
                    <a:lnT w="5760">
                      <a:solidFill>
                        <a:srgbClr val="aae2ca"/>
                      </a:solidFill>
                    </a:lnT>
                    <a:lnB w="5760">
                      <a:solidFill>
                        <a:srgbClr val="aae2ca"/>
                      </a:solidFill>
                    </a:lnB>
                    <a:solidFill>
                      <a:srgbClr val="f1fa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i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aae2ca"/>
                      </a:solidFill>
                    </a:lnL>
                    <a:lnR w="5760">
                      <a:solidFill>
                        <a:srgbClr val="aae2ca"/>
                      </a:solidFill>
                    </a:lnR>
                    <a:lnT w="5760">
                      <a:solidFill>
                        <a:srgbClr val="aae2ca"/>
                      </a:solidFill>
                    </a:lnT>
                    <a:lnB w="5760">
                      <a:solidFill>
                        <a:srgbClr val="aae2ca"/>
                      </a:solidFill>
                    </a:lnB>
                    <a:solidFill>
                      <a:srgbClr val="e2f4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ime (hours, minutes, etc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aae2ca"/>
                      </a:solidFill>
                    </a:lnL>
                    <a:lnR w="5760">
                      <a:solidFill>
                        <a:srgbClr val="aae2ca"/>
                      </a:solidFill>
                    </a:lnR>
                    <a:lnT w="5760">
                      <a:solidFill>
                        <a:srgbClr val="aae2ca"/>
                      </a:solidFill>
                    </a:lnT>
                    <a:lnB w="5760">
                      <a:solidFill>
                        <a:srgbClr val="aae2ca"/>
                      </a:solidFill>
                    </a:lnB>
                    <a:solidFill>
                      <a:srgbClr val="e2f4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aae2ca"/>
                      </a:solidFill>
                    </a:lnL>
                    <a:lnR w="5760">
                      <a:solidFill>
                        <a:srgbClr val="aae2ca"/>
                      </a:solidFill>
                    </a:lnR>
                    <a:lnT w="5760">
                      <a:solidFill>
                        <a:srgbClr val="aae2ca"/>
                      </a:solidFill>
                    </a:lnT>
                    <a:lnB w="5760">
                      <a:solidFill>
                        <a:srgbClr val="aae2ca"/>
                      </a:solidFill>
                    </a:lnB>
                    <a:solidFill>
                      <a:srgbClr val="f1f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ate (year, month, date, etc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aae2ca"/>
                      </a:solidFill>
                    </a:lnL>
                    <a:lnR w="5760">
                      <a:solidFill>
                        <a:srgbClr val="aae2ca"/>
                      </a:solidFill>
                    </a:lnR>
                    <a:lnT w="5760">
                      <a:solidFill>
                        <a:srgbClr val="aae2ca"/>
                      </a:solidFill>
                    </a:lnT>
                    <a:lnB w="5760">
                      <a:solidFill>
                        <a:srgbClr val="aae2ca"/>
                      </a:solidFill>
                    </a:lnB>
                    <a:solidFill>
                      <a:srgbClr val="f1fa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ateTi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aae2ca"/>
                      </a:solidFill>
                    </a:lnL>
                    <a:lnR w="5760">
                      <a:solidFill>
                        <a:srgbClr val="aae2ca"/>
                      </a:solidFill>
                    </a:lnR>
                    <a:lnT w="5760">
                      <a:solidFill>
                        <a:srgbClr val="aae2ca"/>
                      </a:solidFill>
                    </a:lnT>
                    <a:lnB w="5760">
                      <a:solidFill>
                        <a:srgbClr val="aae2ca"/>
                      </a:solidFill>
                    </a:lnB>
                    <a:solidFill>
                      <a:srgbClr val="e2f4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ate and Time togeth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aae2ca"/>
                      </a:solidFill>
                    </a:lnL>
                    <a:lnR w="5760">
                      <a:solidFill>
                        <a:srgbClr val="aae2ca"/>
                      </a:solidFill>
                    </a:lnR>
                    <a:lnT w="5760">
                      <a:solidFill>
                        <a:srgbClr val="aae2ca"/>
                      </a:solidFill>
                    </a:lnT>
                    <a:lnB w="5760">
                      <a:solidFill>
                        <a:srgbClr val="aae2ca"/>
                      </a:solidFill>
                    </a:lnB>
                    <a:solidFill>
                      <a:srgbClr val="e2f4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angua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aae2ca"/>
                      </a:solidFill>
                    </a:lnL>
                    <a:lnR w="5760">
                      <a:solidFill>
                        <a:srgbClr val="aae2ca"/>
                      </a:solidFill>
                    </a:lnR>
                    <a:lnT w="5760">
                      <a:solidFill>
                        <a:srgbClr val="aae2ca"/>
                      </a:solidFill>
                    </a:lnT>
                    <a:lnB w="5760">
                      <a:solidFill>
                        <a:srgbClr val="aae2ca"/>
                      </a:solidFill>
                    </a:lnB>
                    <a:solidFill>
                      <a:srgbClr val="f1f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anguage codes (e.g. “en”, “de”, etc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aae2ca"/>
                      </a:solidFill>
                    </a:lnL>
                    <a:lnR w="5760">
                      <a:solidFill>
                        <a:srgbClr val="aae2ca"/>
                      </a:solidFill>
                    </a:lnR>
                    <a:lnT w="5760">
                      <a:solidFill>
                        <a:srgbClr val="aae2ca"/>
                      </a:solidFill>
                    </a:lnT>
                    <a:lnB w="5760">
                      <a:solidFill>
                        <a:srgbClr val="aae2ca"/>
                      </a:solidFill>
                    </a:lnB>
                    <a:solidFill>
                      <a:srgbClr val="f1fa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oole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aae2ca"/>
                      </a:solidFill>
                    </a:lnL>
                    <a:lnR w="5760">
                      <a:solidFill>
                        <a:srgbClr val="aae2ca"/>
                      </a:solidFill>
                    </a:lnR>
                    <a:lnT w="5760">
                      <a:solidFill>
                        <a:srgbClr val="aae2ca"/>
                      </a:solidFill>
                    </a:lnT>
                    <a:lnB w="5760">
                      <a:solidFill>
                        <a:srgbClr val="aae2ca"/>
                      </a:solidFill>
                    </a:lnB>
                    <a:solidFill>
                      <a:srgbClr val="e2f4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rue or False valu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aae2ca"/>
                      </a:solidFill>
                    </a:lnL>
                    <a:lnR w="5760">
                      <a:solidFill>
                        <a:srgbClr val="aae2ca"/>
                      </a:solidFill>
                    </a:lnR>
                    <a:lnT w="5760">
                      <a:solidFill>
                        <a:srgbClr val="aae2ca"/>
                      </a:solidFill>
                    </a:lnT>
                    <a:lnB w="5760">
                      <a:solidFill>
                        <a:srgbClr val="aae2ca"/>
                      </a:solidFill>
                    </a:lnB>
                    <a:solidFill>
                      <a:srgbClr val="e2f4e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1"/>
          <p:cNvSpPr/>
          <p:nvPr/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Text Box 2"/>
          <p:cNvSpPr/>
          <p:nvPr/>
        </p:nvSpPr>
        <p:spPr>
          <a:xfrm>
            <a:off x="137160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w Cen MT"/>
              </a:rPr>
              <a:t>XQuery and XPat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1"/>
          <p:cNvSpPr/>
          <p:nvPr/>
        </p:nvSpPr>
        <p:spPr>
          <a:xfrm>
            <a:off x="3124080" y="426960"/>
            <a:ext cx="5867640" cy="58482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?xml version="1.0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purchaseOrder orderDate="1999-10-20"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shipTo country="US"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name&gt;Alice Smith&lt;/na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street&gt;123 Maple Street&lt;/street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city&gt;Mill Valley&lt;/cit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state&gt;CA&lt;/stat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zip&gt;90952&lt;/zip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shipTo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billTo country="US"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name&gt;Robert Smith&lt;/na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street&gt;8 Oak Avenue&lt;/street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city&gt;Old Town&lt;/cit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state&gt;PA&lt;/stat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zip&gt;95819&lt;/zip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billTo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comment&gt;Hurry, my lawn is going wild!&lt;/comment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items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item partNum="872-AA"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productName&gt;Lawnmower&lt;/productNa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quantity&gt;1&lt;/quantit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USPrice&gt;148.95&lt;/USPric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comment&gt;Confirm this is electric&lt;/comment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item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items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purchaseOrd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Text Box 2"/>
          <p:cNvSpPr/>
          <p:nvPr/>
        </p:nvSpPr>
        <p:spPr>
          <a:xfrm>
            <a:off x="609480" y="68400"/>
            <a:ext cx="815364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Example</a:t>
            </a:r>
            <a:br>
              <a:rPr sz="4000"/>
            </a:b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Docu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4T02:45:38Z</dcterms:created>
  <dc:creator>Joerg Evermann</dc:creator>
  <dc:description/>
  <dc:language>en-US</dc:language>
  <cp:lastModifiedBy>Katherine Alexander</cp:lastModifiedBy>
  <dcterms:modified xsi:type="dcterms:W3CDTF">2014-01-05T16:49:21Z</dcterms:modified>
  <cp:revision>111</cp:revision>
  <dc:subject/>
  <dc:title>XML Schema Language</dc:title>
</cp:coreProperties>
</file>